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135%20sec%20Ern%20Cortazar%20-%20Stolen%20kiss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1CD-3CF1-44AD-B8E0-B9A0B688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B20-9CD5-42DD-A27C-512F8F9A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CF5-763D-45DE-8F47-51263BD66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69BA-FC7D-47F1-9EB7-36B075AF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6BA3-7EB2-480F-8133-4E6CDF1B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E2A5-8198-4DA1-8BA1-E11D50887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CC0B-E2B0-4E18-97BA-AF413185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2DE2-17B7-49EA-95A1-9653B41E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9184-32E2-4C03-B10B-68E08DD8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91B5-95CE-4F3F-90F9-2F00C8C2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915E-9B6B-49DA-90B2-DE350BF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B04-74D0-4BCC-B68D-7BAFF245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63A3-D705-4E8D-B5DC-9B216190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2C9C-EDD5-4ED4-93D2-2E7B5598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8796-4CD2-432C-9060-E63C5ADE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33F1-6E3D-4FF1-8421-13EA8744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CE78-0A1F-4977-AE4E-456AD84B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5197-F56C-4C81-B0B3-186498AE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73E9-0D50-4706-BD0A-369ED4D2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1CA-C819-484B-840D-19A36F11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1E35-7018-47FD-AF01-D00930DB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3AA-0D98-470E-93DE-7B7401D3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968-40AF-4232-ADAB-6E4FE83B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E518-F19A-4DD7-8ACB-5B89F03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10A0-258E-4229-B877-F977B43477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C99D-B4DD-4EEE-87A9-E615CD74462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35%20sec%20Ern%20Cortazar%20-%20Stolen%20kis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icas.ro/fumatul-un-viciu-care-ucide-07-04-200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ealth_effects_of_tobacco_smoking" TargetMode="External"/><Relationship Id="rId2" Type="http://schemas.openxmlformats.org/officeDocument/2006/relationships/hyperlink" Target="http://www.medicas.ro/fumatul-un-viciu-care-ucide-07-04-2008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CA9C-63A2-4D93-952D-F7EEBC7B1B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4" name="Picture 15" descr="stop_fumat_ydfgdf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A457-C934-4B45-BD6D-908693E2DF7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5228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Este un factor de risc pentru instalarea mai devreme a menopa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uzei la femei, apariţia prematură a ridurilor faciale, a osteoporoze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la femei, a disfuncţiilor sexuale la bărbaţi, scăderea imunităţii î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genera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 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atul în timpul sarcinii poate afecta dezvoltarea fătulu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cesta cântărind mai puţin decât un nou-născut al unei mam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nefumătoare; creşte riscul de avort spontan şi de deces al fătulu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lte efecte: gingivite, apariţia cariilor, voce răguşită, îngălbeni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rea tegumentelor degetelor, a unghiilor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0EB0-410B-4B55-89A6-FB913418B0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59739_fumatul_ucide_rapi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ubstituent număr diapozitiv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63C7-5961-44F3-88C6-0E965420297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Efectele negative de foarte scurtă durată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ritmul inimii se accelereaz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reşte tensiunea arterial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ţesutul laringelui devi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irit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oxidul de carbon intră î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âng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ubstanţele cancerige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intră imediat în plămân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erul este polu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ochii pot fi iritaţ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emperatura pielii sca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7" descr="news-20100412-05324797-1664478561"/>
          <p:cNvPicPr/>
          <p:nvPr/>
        </p:nvPicPr>
        <p:blipFill>
          <a:blip r:embed="rId1"/>
          <a:stretch/>
        </p:blipFill>
        <p:spPr>
          <a:xfrm>
            <a:off x="4952880" y="1523880"/>
            <a:ext cx="3581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ubstituent număr diapozitiv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C82A-C2C3-4BAF-BAAC-52E3C06FC9F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Efectele negative de scurtă durată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lterarea mucoasei buzelor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limbii,cerului gurii,laringelu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usea, respiraţia urâ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mirositoare, infecţii ale guri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lterarea mirosulu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riduri facial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ete galbene pe dinţ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interferenţa cu o respiraţi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normală şi reducerea rezis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enţei la infecţii respiratori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ensibiltate la bol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5" descr="621px-Full_Ashtray"/>
          <p:cNvPicPr/>
          <p:nvPr/>
        </p:nvPicPr>
        <p:blipFill>
          <a:blip r:embed="rId1"/>
          <a:stretch/>
        </p:blipFill>
        <p:spPr>
          <a:xfrm>
            <a:off x="4648320" y="1523880"/>
            <a:ext cx="4114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ubstituent număr diapozitiv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AA50-CB28-4A1D-9C13-045C1EDE5D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Efecte negative de lungă durată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ancer pulmonar, al cavită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ţii bucale, al esofagulu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laringelui, pancreasului ş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vezicii urinar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boli de inim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ulcere digestiv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fecţiuni circulatorii ş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alpitaţi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emfize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bronşită cronic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5" descr="Fumatul imbatraneste prematur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8F17-7C16-4E5A-9EFE-15FDD091DBD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Fumatul pasiv-ştiţi ce consecinţe are?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8" name="Picture 4" descr="38357-0-fumat_pasiv"/>
          <p:cNvPicPr/>
          <p:nvPr/>
        </p:nvPicPr>
        <p:blipFill>
          <a:blip r:embed="rId1"/>
          <a:stretch/>
        </p:blipFill>
        <p:spPr>
          <a:xfrm>
            <a:off x="0" y="1600200"/>
            <a:ext cx="4495680" cy="5257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14075_passive-smoking_"/>
          <p:cNvPicPr/>
          <p:nvPr/>
        </p:nvPicPr>
        <p:blipFill>
          <a:blip r:embed="rId2"/>
          <a:stretch/>
        </p:blipFill>
        <p:spPr>
          <a:xfrm>
            <a:off x="4495680" y="1600200"/>
            <a:ext cx="46483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92E6-532D-4361-9DA4-A868B8DC5ED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atul pasiv reprezintă inhalarea fumului de ţigară de căt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nefumători, într-un mediu în care se fumează şi este la fel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ăunător pentru sănătate ca şi fumatul propriu-z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Una dintre substanţele conţinute de fumul de ţigară este nicotin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are are un grad ridicat de toxicitate şi care a fost folosită , 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început , ca insecticid. Vă daţi seama cât este de nociv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Nicotina este extrasă din frunzele de tutun şi imediat ce ajunge î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organism , prin inhalarea fumului, este metabolizată la nivelu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icatului. Nicotina determină creşterea nivelului de dopamină (u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neurotransmiţător), efectul său fiind similar celui produs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onsumul de cocaină şi de heroină. Mai pe scurt: provoac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pendenţă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Şi nu mai miră pe nimeni că riscul de a deveni fumători este ma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mare în rândul persoanelor care au “fumat pasiv” în copilări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D141-5CD5-49F1-881D-2E9F79204C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Efectele fumatului pasiv pot fi: senzaţia de greaţă,cefaleea, tuse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iritaţia ochilor, exacerbări la pacienţii astmatici, creşterea risculu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 cancer pulmonar, a riscului de boli cardiace şi accidente vascu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lare cerebral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Organizaţia Mondială a Sănătăţii(OMS) avertizează că, anual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600.000 de oameni mor din cauza fumatului pasiv, care este 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originea unui deces din opt cauzat de fumat. Raportul OMS arat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ă aproape 40% din copii sunt expuşi , în mod regulat , fumatulu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asiv în familiile lor, în pofida efectelor nocive. Cel puţin 31%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intre cei care mor din cauza fumatului pasiv sunt copi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D98A-9DC2-4F4E-98D6-80612EC404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4" descr="10117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second_hand_smokecars_kids"/>
          <p:cNvPicPr/>
          <p:nvPr/>
        </p:nvPicPr>
        <p:blipFill>
          <a:blip r:embed="rId2"/>
          <a:stretch/>
        </p:blipFill>
        <p:spPr>
          <a:xfrm>
            <a:off x="4648320" y="0"/>
            <a:ext cx="472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A931-8D19-4FB6-93D1-D9DD7629536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4" descr="anti-fumat.jpg image by mariussesc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F2FD-2D52-46B3-882D-5CA102E9F5C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dbbd71"/>
                </a:solidFill>
                <a:latin typeface="Arial"/>
              </a:rPr>
              <a:t>FUMATUL - UN VICIU CARE UCIDE!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D586-03E1-4781-AFBC-18454190CBE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Beneficiile renunţării la fumat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Beneficiile, din punct de vedere al stării de sănătate, apar imedia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şi sunt susţinute în timp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Renunţând la fumat, efectele negative pot fi combătute, iar stare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 sănătate se ameliorează în scurt timp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upă 20 de minute, bătaile inimii şi tensiunea arterială se po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normaliza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upa 12 de ore, nivelurile de monoxid de carbon şi nicotină d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ânge se înjumătăţesc, iar nivelul oxigenului revine la norma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upă 48 de ore, nicotina este eliminată complet din organism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imţurile gustului şi mirosului încep să se îmbunătăţeasc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upa 72 de ore, căile respiratorii încep să se relaxeze, permiţâ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o mai bună şi uşoară respiraţie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610-3362-4CFF-8AA5-8668F90A18F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între 2 săptămâni şi 3 luni: circulaţia sângelui începe să 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îmbunătăţeasc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între 1 şi 9 luni: plămânii încep să funcţionze mai bine, iar tuse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cade în intensita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upă 1 an, riscul de boală coronariană (boala arterelor inimii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este redus la jumătate faţă de o persoană care continuă s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ez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upă 5 ani, riscul de accident vascular cerebral începe să scad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brusc şi revine la nivelul nefumătorilor,la 15 ani după renunţar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upă 10 ani, riscul de cancer pulmonar este de 30-50% d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l celor ce continuă să fumez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upă 15 ani, riscul bolii cardiace ischemice este similar cu 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nefumătorilo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 asemenea, încetarea fumatului, indiferent de vârsta la ca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re loc, creşte speranţa de viaţă, comparativ cu cei care continu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ă fumeze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3E6C-F82B-49E7-93A3-6A8AA2E1C9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Metode preventive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1. Legislaţie adecvată pentru interzicerea fumatului în locurile public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2. Informarea corectă şi completă privind efectul fumatului asupra organismulu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3. Necesitatea educaţiei pentru sănătate la populaţia de vârstă şcolar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4. Evidenţierea, în cadrul discuţiilor, a rolului negativ privind reclamele comerciale pentru mărcile de ţigăr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5. Informarea populaţiei că tutunul poate fi şi un drog de “pasaj”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6. Ajutarea persoanelor pentru depăşirea unor dificultăţi fără a apela la droguri(fumat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7. Utilizarea reclamelor anti-fumat în sistemul mass-med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ubstituent număr diapozitiv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9440-6DA7-44A6-9926-01C880DFA5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În loc să fumezi poţi să…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ractici un spor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aci o plimbar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vizionezi un film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vizitezi noi locur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mănânci un fruc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oferi un dar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chimbi look-ul tău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umperi un lucru util pentru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in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redescoperi bucuria joculu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rezişti tentaţiei devenind astfel un  ÎNVINGĂTOR!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cross-country-jogging-md-82952808"/>
          <p:cNvPicPr/>
          <p:nvPr/>
        </p:nvPicPr>
        <p:blipFill>
          <a:blip r:embed="rId1"/>
          <a:stretch/>
        </p:blipFill>
        <p:spPr>
          <a:xfrm>
            <a:off x="5334120" y="1600200"/>
            <a:ext cx="3352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5FD6-79E3-437B-8FDB-BB18D2DE07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Oameni maturi, dacă fumaţi reflectaţi asupra cuvintelor înţelepte: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dffec"/>
                </a:solidFill>
                <a:latin typeface="Tahoma"/>
              </a:rPr>
              <a:t>“ </a:t>
            </a:r>
            <a:r>
              <a:rPr b="1" lang="en-US" sz="2400" spc="-1" strike="noStrike">
                <a:solidFill>
                  <a:srgbClr val="9dffec"/>
                </a:solidFill>
                <a:latin typeface="Tahoma"/>
              </a:rPr>
              <a:t>Copiii voştri nu sunt ai voşt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ffec"/>
                </a:solidFill>
                <a:latin typeface="Tahoma"/>
              </a:rPr>
              <a:t>Ei sunt fiii şi fiicele vieţii care se iubeşte pe si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ffec"/>
                </a:solidFill>
                <a:latin typeface="Tahoma"/>
              </a:rPr>
              <a:t>Puteţi să încercaţi să fiţi ca ei, dar nu încercaţi să-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ffec"/>
                </a:solidFill>
                <a:latin typeface="Tahoma"/>
              </a:rPr>
              <a:t>faceţi asemeni vouă. Şi asta deoarece viaţa nu 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ffec"/>
                </a:solidFill>
                <a:latin typeface="Tahoma"/>
              </a:rPr>
              <a:t>mai întoarce la ziua ce a fost şi nu o intereseaz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ffec"/>
                </a:solidFill>
                <a:latin typeface="Tahoma"/>
              </a:rPr>
              <a:t>trecutul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ffec"/>
                </a:solidFill>
                <a:latin typeface="Tahoma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9dffec"/>
                </a:solidFill>
                <a:latin typeface="Tahoma"/>
              </a:rPr>
              <a:t>Kahlil Gib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9C46-3809-4513-B3E5-EE2AB086289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MĂTORI!</a:t>
            </a:r>
            <a:br>
              <a:rPr sz="4400"/>
            </a:b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Amintiţi-vă că doar 15% din fumul unei ţigări îl inhalaţi dumneavoastră. Restul de 85% formează un nor de fum în care cresc copiii, tinerii.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ubstituent număr diapozitiv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D98B-AAB0-461B-B824-2E8D3D572AF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Alegerea este a dumneavoastră!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28" name="Picture 6" descr="07cigs"/>
          <p:cNvPicPr/>
          <p:nvPr/>
        </p:nvPicPr>
        <p:blipFill>
          <a:blip r:embed="rId1"/>
          <a:stretch/>
        </p:blipFill>
        <p:spPr>
          <a:xfrm>
            <a:off x="457200" y="1447920"/>
            <a:ext cx="3962520" cy="5105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60791392"/>
          <p:cNvPicPr/>
          <p:nvPr/>
        </p:nvPicPr>
        <p:blipFill>
          <a:blip r:embed="rId2"/>
          <a:stretch/>
        </p:blipFill>
        <p:spPr>
          <a:xfrm>
            <a:off x="5029200" y="1447920"/>
            <a:ext cx="38098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1720-554A-42E0-B9FF-DD2EFD432C4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Picture 4" descr="DSC045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D73-AC4C-4227-82BB-9A86A947E4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Chestionar privind atitudinea faţă de fumat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acă v-aţi gândit vreodată să fumaţi sau sunteţi deja fumător, acest chestionar vă ajută să vă precizaţi atitudinea faţă de fum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      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cordaţi fiecărui enunţ următorul punctaj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            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1= dezacord puter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            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2= dezac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            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3= aco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            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4= acord puterni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dffec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8BD2-BAC3-4302-8809-4216C9B9FD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. Fumatul poate produce boli grave                      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B. Fumatul determină greutăţi în respiraţie           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. Fumatul este posibil să aibă efecte dăunătoare asup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ănătăţii                                                                 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. Fumatul reprezintă un exemplu rău pentru alţii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E. Dacă cineva se lasă de fumat, acest fapt îi poa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termina şi pe alţii să renunţe la fumat             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. Cel care fumează influenţează şi pe alţii să se apu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 fumat sau să continue să fumeze                    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G. Consider fumatul un obicei dăunător                  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H. Ţigările produc stricăciuni îmbrăcămintei şi alto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bunuri personale                                                   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I.  Nefumătorii au un miros mai plăcut decât fumătorii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J.  Interdicţiile în ceea ce priveşte fumatul reprezintă 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ersecuţie                                                              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K. Abandonarea fumatului este un semn de voinţă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L.  Nu-mi place să fiu dependent de fumat                            1 2 3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ubstituent număr diapozitiv 6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7A3D-2A07-4F49-B62B-07DB6FD55FE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Argument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114440" y="1447560"/>
            <a:ext cx="4876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utunul dăunează grav sănătăţii”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atul    cauzează    cancer”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atul în timpul sarcinii es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ericulos pentru copii”, sunt do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âteva din avertismentele pe care l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găsim inscripţionate pe pachetele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ţigări din care extragem , mai mul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au mai puţin graţios, ţigara cea di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oate zilele. Fie că o asortăm 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afea, fie că suntem nervoşi, stresaţ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şi atunci trebuie neapărat să 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prindem o ţigară, zilnic golim zeci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ute, mii de pachete, depinde la 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opulaţie ne raportă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antifumat2"/>
          <p:cNvPicPr/>
          <p:nvPr/>
        </p:nvPicPr>
        <p:blipFill>
          <a:blip r:embed="rId1"/>
          <a:stretch/>
        </p:blipFill>
        <p:spPr>
          <a:xfrm>
            <a:off x="228600" y="144792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9787-E418-472F-8D7F-7F9492CC89D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unctaje între 9-12 semnific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la enunţurile A, B, C= consideraţi fumatul ca un atentat la sănăt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</a:t>
            </a: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la enunţurile D, E,  F= consideraţi că fumatul necesită o atenţie, responsabilitate deosebită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la enunţurile G, H, I = recunoşteţi problemele pe care le generează fumat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</a:t>
            </a: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9dffec"/>
                </a:solidFill>
                <a:latin typeface="Tahoma"/>
              </a:rPr>
              <a:t>la enunţurile J, K, L = apreciaţi că a fi sau nu fumător este o problemă de autocontr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CF03-DA22-4DA3-BC03-DB8F2F9AC2B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bbd71"/>
                </a:solidFill>
                <a:latin typeface="Arial"/>
              </a:rPr>
              <a:t>Bibliografi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1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en.wikipedia.org/wiki/Health_effects_of_tobacco_smoking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2.</a:t>
            </a: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medicas.ro/fumatul-un-viciu-care-ucide-07-04-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3.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Aslan,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na,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 G. Bungeţianu, </a:t>
            </a:r>
            <a:r>
              <a:rPr b="1" i="1" lang="ro-RO" sz="2000" spc="-1" strike="noStrike">
                <a:solidFill>
                  <a:srgbClr val="9dffec"/>
                </a:solidFill>
                <a:latin typeface="Tahoma"/>
              </a:rPr>
              <a:t>Medicina pentru familie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,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Bucureşti,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Ed. Medical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ă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, 1986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4.Breck,John, </a:t>
            </a:r>
            <a:r>
              <a:rPr b="1" i="1" lang="en-US" sz="2000" spc="-1" strike="noStrike">
                <a:solidFill>
                  <a:srgbClr val="9dffec"/>
                </a:solidFill>
                <a:latin typeface="Tahoma"/>
              </a:rPr>
              <a:t>Darul sacru al vieţii,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Editura Patmos, Cluj-Napoca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5.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Cucoş,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Constantin, 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 </a:t>
            </a:r>
            <a:r>
              <a:rPr b="1" i="1" lang="ro-RO" sz="2000" spc="-1" strike="noStrike">
                <a:solidFill>
                  <a:srgbClr val="9dffec"/>
                </a:solidFill>
                <a:latin typeface="Tahoma"/>
              </a:rPr>
              <a:t>Pedagogie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, Iaşi, Ed. Polirom, 199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6.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Kiseleff,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Beatrice,</a:t>
            </a:r>
            <a:r>
              <a:rPr b="1" i="1" lang="ro-RO" sz="2000" spc="-1" strike="noStrike">
                <a:solidFill>
                  <a:srgbClr val="9dffec"/>
                </a:solidFill>
                <a:latin typeface="Tahoma"/>
              </a:rPr>
              <a:t>Proverbe, zicători, ghicitori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, Bucureşti, Ed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   </a:t>
            </a:r>
            <a:r>
              <a:rPr b="1" lang="ro-RO" sz="2000" spc="-1" strike="noStrike">
                <a:solidFill>
                  <a:srgbClr val="9dffec"/>
                </a:solidFill>
                <a:latin typeface="Tahoma"/>
              </a:rPr>
              <a:t>Elis,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E073-1F38-492B-B7F5-8BB6DCA900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3" name="Picture 6" descr="the_end2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0BF8-CFE9-4AC3-9004-BED3C9246B9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 mâine încerc să mă las”, “Când o să fiu însărcinată renunţ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ot la ţigări”, “Am încercat , dar n-am reuşit”, “Ţigara mă ajută s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mă concentrez”, “Bunicul a fumat o viaţă şi a trăit 85-90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ni”,”Mulţi medici fumează”, sunt afirmaţii pe care le auzim zilnic 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unoştinţele noastre şi unele chiar ne aparţin. Nu ştim ce ne face s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prindem ţigara:anturajul, gestul în sine, problemele la ca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redem că aflăm rezolvarea când fumăm, dar ştim sigur că dac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orim cu adevărat să renunţăm, se poate. Şi avem suficien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exemple în familie sau printre cunoştinţe:oameni care au renunţat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şi fumau 3 pachete pe zi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rin intermediul acestui material,nu ne propunem să vă dăm sfa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uri, pe care cu siguranţă le primiţi de la părinţi, soţi, soţii, profeso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şi alte persoane care se gândesc la plămânii dumneavoastră şi,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e nu, şi la ai lor. Ne propunem să vă prezentăm câteva efecte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onsecinţe şi date statistice referitoare la fuma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F0F6-B84C-40DF-BA68-885F07AF68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2400" spc="-1" strike="noStrike">
                <a:solidFill>
                  <a:srgbClr val="9dffec"/>
                </a:solidFill>
                <a:latin typeface="Tahoma"/>
              </a:rPr>
              <a:t>Plămânii unui fumător şi ai unui nefumăt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6" descr="plamani de fumator si plamanii unui nefumator by henrich.ro."/>
          <p:cNvPicPr/>
          <p:nvPr/>
        </p:nvPicPr>
        <p:blipFill>
          <a:blip r:embed="rId1"/>
          <a:stretch/>
        </p:blipFill>
        <p:spPr>
          <a:xfrm>
            <a:off x="1143000" y="609480"/>
            <a:ext cx="6781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06D0F-F527-47BF-8DF5-F4094D28A5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Fumatul…pe glob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Există aproximativ 1.2 miliarde fumători în lum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 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atul este responsabil pentru aproximativ 4 milioane dece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în fiecare an, 11.000 în fiecare z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area unei singure ţigări scurtează viaţa cu 7 minu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 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Rata mortalităţii în rândul fumătorilor este de 2-3 ori mai ma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cât la nefumători la toate grupele de vârst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proximativ jumătate din decesele legate de fumat se produc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între 35-69 ani, ceea ce face din fumat cea mai importantă cauz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de moarte prematură în ţările civiliza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 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ătorii trecuţi de 30 de ani suferă de 5 ori mai multe infarct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miocardice decît nefumători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atul cauzează cca. 30% din decesele prin cancer; aproximati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90-95% din decesele prin cancer pulmonar la bărbaţi şi 70-75% 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emei se datorează fumatului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8F68-E52C-4229-A72B-FB113E98F30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De ce să NU fumăm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este 4000 de substanţe au fost identificate în fumul de ţigară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incluzând câteva care sunt active farmacologic, antigenice, cito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oxice, mutagene şi cancerigene. Printre substanţele periculoas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onţinute de tigări se numără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hidrocarburi policiclice aromatice cancerigen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nitrozamine cancerigen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nicotină, un drog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monoxid de carbon toxic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cid cianhidric şi oxid de azot care distrug plămânii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metale grele cancerigen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substanţe radioactive cancerige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94BA-DDA2-449F-8400-6967C294DAD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stopfumat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ubstituent număr diapozitiv 5"/>
          <p:cNvSpPr/>
          <p:nvPr/>
        </p:nvSpPr>
        <p:spPr>
          <a:xfrm>
            <a:off x="655308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B5D-1B82-42CA-B982-72499FD84B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 ce ne expunem dacă fumăm?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umatul este o cauză importantă a bolilor pulmonare cronic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obstructive, tusea cronică, expectoraţia şi insuficienţa respiratori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fiind frecvent întâlnite la fumători; consumul ţigărilor a fo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sociat, de asemenea, cu o incidenţă crescută a infecţiilor respira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orii şi deceselor cauzate de pneumonie şi gripă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 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Este o cauză majoră a bolii coronariene, contribuind la evenimen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tele acute coronariene ischemice (infarct miocardic), trombotice ş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aritmice; agravează ischemia periferică, poate afecta grefele de by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pass periferic şi este o cauză importantă a bolilor cerebrovascular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• </a:t>
            </a: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Este responsabil ,în proporţie de 85-90%, de apariţia cancerulu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bronho-pulmonar; important factor de risc şi pentru alte tipuri 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cancere: cavitate bucală, faringe, laringe, esofag, pancreas, vezic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dffec"/>
                </a:solidFill>
                <a:latin typeface="Tahoma"/>
              </a:rPr>
              <a:t>urinară, rinichi, stomac, col uterin;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34:28Z</dcterms:created>
  <dc:creator>cornelia cucu</dc:creator>
  <dc:description/>
  <dc:language>en-US</dc:language>
  <cp:lastModifiedBy>User</cp:lastModifiedBy>
  <dcterms:modified xsi:type="dcterms:W3CDTF">2013-01-26T18:46:47Z</dcterms:modified>
  <cp:revision>9</cp:revision>
  <dc:subject/>
  <dc:title>Savanti in domeniul stiintelor naturii</dc:title>
</cp:coreProperties>
</file>